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2465-9CAC-4941-BBB1-F410E043F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8D0F-8756-446C-BFA5-778E569E6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61DF-15ED-45B7-A0F9-80E990D05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BCAB-BB02-4E90-B969-C5981B6DD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A722-3E6E-42A7-B700-F1CFDACB3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426B-C5D3-44FF-8BF4-2B4860BB4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1F1D-835D-4FC3-B85D-06989D0F3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6176-A754-4250-9912-9C8521D3B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A9FB-7067-438A-BE9A-212CD4BD6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FC3F-20CD-489D-907B-8F43B977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9CE6-93D0-4C9E-B996-D9844ABC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BB1A-454A-4C19-8AE0-52071C08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9033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520"/>
            <a:ext cx="2894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36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6ACBD0-D064-41E0-B142-6BFBEC94977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948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Uncertainty and reasoning:</a:t>
            </a:r>
            <a:br>
              <a:rPr sz="4400"/>
            </a:b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lectur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itive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A or B) = P(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P(A) + P(B) – P(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A and B are mutually exclus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 )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A or B) = P(A) + P(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icative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A and B) = P(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P(A) * P(B|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P(B) * P(A|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independent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B|A) = P(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A|B) = P(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) = P(A) * P(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yes Theor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E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bability 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rue given evidence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E | 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bability E is observed given 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rue regardless of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E) =  P(E | 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* P(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  =    P(E | 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* P(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E | 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* P(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           P(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=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438280" y="4800600"/>
            <a:ext cx="2895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48006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42960" y="2365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’ Theor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0680" y="1009440"/>
            <a:ext cx="8229600" cy="52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708200"/>
                <a:tab algn="l" pos="2622600"/>
                <a:tab algn="l" pos="3537000"/>
                <a:tab algn="l" pos="4451400"/>
                <a:tab algn="l" pos="5365800"/>
                <a:tab algn="l" pos="6280200"/>
                <a:tab algn="l" pos="7194600"/>
                <a:tab algn="l" pos="8109000"/>
                <a:tab algn="l" pos="9023400"/>
                <a:tab algn="l" pos="99378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e setting of diagnostic/evidential reaso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0">
              <a:lnSpc>
                <a:spcPct val="90000"/>
              </a:lnSpc>
              <a:buNone/>
              <a:tabLst>
                <a:tab algn="l" pos="0"/>
                <a:tab algn="l" pos="793800"/>
                <a:tab algn="l" pos="1708200"/>
                <a:tab algn="l" pos="2622600"/>
                <a:tab algn="l" pos="3537000"/>
                <a:tab algn="l" pos="4451400"/>
                <a:tab algn="l" pos="5365800"/>
                <a:tab algn="l" pos="6280200"/>
                <a:tab algn="l" pos="7194600"/>
                <a:tab algn="l" pos="8109000"/>
                <a:tab algn="l" pos="9023400"/>
                <a:tab algn="l" pos="99378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0">
              <a:lnSpc>
                <a:spcPct val="90000"/>
              </a:lnSpc>
              <a:buNone/>
              <a:tabLst>
                <a:tab algn="l" pos="0"/>
                <a:tab algn="l" pos="793800"/>
                <a:tab algn="l" pos="1708200"/>
                <a:tab algn="l" pos="2622600"/>
                <a:tab algn="l" pos="3537000"/>
                <a:tab algn="l" pos="4451400"/>
                <a:tab algn="l" pos="5365800"/>
                <a:tab algn="l" pos="6280200"/>
                <a:tab algn="l" pos="7194600"/>
                <a:tab algn="l" pos="8109000"/>
                <a:tab algn="l" pos="9023400"/>
                <a:tab algn="l" pos="99378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0">
              <a:lnSpc>
                <a:spcPct val="90000"/>
              </a:lnSpc>
              <a:buNone/>
              <a:tabLst>
                <a:tab algn="l" pos="0"/>
                <a:tab algn="l" pos="793800"/>
                <a:tab algn="l" pos="1708200"/>
                <a:tab algn="l" pos="2622600"/>
                <a:tab algn="l" pos="3537000"/>
                <a:tab algn="l" pos="4451400"/>
                <a:tab algn="l" pos="5365800"/>
                <a:tab algn="l" pos="6280200"/>
                <a:tab algn="l" pos="7194600"/>
                <a:tab algn="l" pos="8109000"/>
                <a:tab algn="l" pos="9023400"/>
                <a:tab algn="l" pos="99378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0">
              <a:lnSpc>
                <a:spcPct val="90000"/>
              </a:lnSpc>
              <a:buNone/>
              <a:tabLst>
                <a:tab algn="l" pos="0"/>
                <a:tab algn="l" pos="793800"/>
                <a:tab algn="l" pos="1708200"/>
                <a:tab algn="l" pos="2622600"/>
                <a:tab algn="l" pos="3537000"/>
                <a:tab algn="l" pos="4451400"/>
                <a:tab algn="l" pos="5365800"/>
                <a:tab algn="l" pos="6280200"/>
                <a:tab algn="l" pos="7194600"/>
                <a:tab algn="l" pos="8109000"/>
                <a:tab algn="l" pos="9023400"/>
                <a:tab algn="l" pos="99378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0">
              <a:lnSpc>
                <a:spcPct val="90000"/>
              </a:lnSpc>
              <a:buNone/>
              <a:tabLst>
                <a:tab algn="l" pos="0"/>
                <a:tab algn="l" pos="793800"/>
                <a:tab algn="l" pos="1708200"/>
                <a:tab algn="l" pos="2622600"/>
                <a:tab algn="l" pos="3537000"/>
                <a:tab algn="l" pos="4451400"/>
                <a:tab algn="l" pos="5365800"/>
                <a:tab algn="l" pos="6280200"/>
                <a:tab algn="l" pos="7194600"/>
                <a:tab algn="l" pos="8109000"/>
                <a:tab algn="l" pos="9023400"/>
                <a:tab algn="l" pos="99378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0">
              <a:lnSpc>
                <a:spcPct val="90000"/>
              </a:lnSpc>
              <a:buNone/>
              <a:tabLst>
                <a:tab algn="l" pos="0"/>
                <a:tab algn="l" pos="793800"/>
                <a:tab algn="l" pos="1708200"/>
                <a:tab algn="l" pos="2622600"/>
                <a:tab algn="l" pos="3537000"/>
                <a:tab algn="l" pos="4451400"/>
                <a:tab algn="l" pos="5365800"/>
                <a:tab algn="l" pos="6280200"/>
                <a:tab algn="l" pos="7194600"/>
                <a:tab algn="l" pos="8109000"/>
                <a:tab algn="l" pos="9023400"/>
                <a:tab algn="l" pos="99378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0">
              <a:lnSpc>
                <a:spcPct val="90000"/>
              </a:lnSpc>
              <a:buNone/>
              <a:tabLst>
                <a:tab algn="l" pos="0"/>
                <a:tab algn="l" pos="793800"/>
                <a:tab algn="l" pos="1708200"/>
                <a:tab algn="l" pos="2622600"/>
                <a:tab algn="l" pos="3537000"/>
                <a:tab algn="l" pos="4451400"/>
                <a:tab algn="l" pos="5365800"/>
                <a:tab algn="l" pos="6280200"/>
                <a:tab algn="l" pos="7194600"/>
                <a:tab algn="l" pos="8109000"/>
                <a:tab algn="l" pos="9023400"/>
                <a:tab algn="l" pos="99378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0">
              <a:lnSpc>
                <a:spcPct val="90000"/>
              </a:lnSpc>
              <a:buNone/>
              <a:tabLst>
                <a:tab algn="l" pos="0"/>
                <a:tab algn="l" pos="793800"/>
                <a:tab algn="l" pos="1708200"/>
                <a:tab algn="l" pos="2622600"/>
                <a:tab algn="l" pos="3537000"/>
                <a:tab algn="l" pos="4451400"/>
                <a:tab algn="l" pos="5365800"/>
                <a:tab algn="l" pos="6280200"/>
                <a:tab algn="l" pos="7194600"/>
                <a:tab algn="l" pos="8109000"/>
                <a:tab algn="l" pos="9023400"/>
                <a:tab algn="l" pos="99378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0">
              <a:lnSpc>
                <a:spcPct val="90000"/>
              </a:lnSpc>
              <a:buNone/>
              <a:tabLst>
                <a:tab algn="l" pos="0"/>
                <a:tab algn="l" pos="793800"/>
                <a:tab algn="l" pos="1708200"/>
                <a:tab algn="l" pos="2622600"/>
                <a:tab algn="l" pos="3537000"/>
                <a:tab algn="l" pos="4451400"/>
                <a:tab algn="l" pos="5365800"/>
                <a:tab algn="l" pos="6280200"/>
                <a:tab algn="l" pos="7194600"/>
                <a:tab algn="l" pos="8109000"/>
                <a:tab algn="l" pos="9023400"/>
                <a:tab algn="l" pos="99378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7160">
              <a:lnSpc>
                <a:spcPct val="120000"/>
              </a:lnSpc>
              <a:buClr>
                <a:srgbClr val="000000"/>
              </a:buClr>
              <a:buFont typeface="Times New Roman"/>
              <a:buChar char="–"/>
              <a:tabLst>
                <a:tab algn="l" pos="793800"/>
                <a:tab algn="l" pos="1708200"/>
                <a:tab algn="l" pos="2622600"/>
                <a:tab algn="l" pos="3537000"/>
                <a:tab algn="l" pos="4451400"/>
                <a:tab algn="l" pos="5365800"/>
                <a:tab algn="l" pos="6280200"/>
                <a:tab algn="l" pos="7194600"/>
                <a:tab algn="l" pos="8109000"/>
                <a:tab algn="l" pos="9023400"/>
                <a:tab algn="l" pos="99378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now prior probability of hypothes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0">
              <a:lnSpc>
                <a:spcPct val="120000"/>
              </a:lnSpc>
              <a:buNone/>
              <a:tabLst>
                <a:tab algn="l" pos="0"/>
                <a:tab algn="l" pos="793800"/>
                <a:tab algn="l" pos="1708200"/>
                <a:tab algn="l" pos="2622600"/>
                <a:tab algn="l" pos="3537000"/>
                <a:tab algn="l" pos="4451400"/>
                <a:tab algn="l" pos="5365800"/>
                <a:tab algn="l" pos="6280200"/>
                <a:tab algn="l" pos="7194600"/>
                <a:tab algn="l" pos="8109000"/>
                <a:tab algn="l" pos="9023400"/>
                <a:tab algn="l" pos="99378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ditional probabilit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7160">
              <a:lnSpc>
                <a:spcPct val="120000"/>
              </a:lnSpc>
              <a:buClr>
                <a:srgbClr val="000000"/>
              </a:buClr>
              <a:buFont typeface="Times New Roman"/>
              <a:buChar char="–"/>
              <a:tabLst>
                <a:tab algn="l" pos="793800"/>
                <a:tab algn="l" pos="1708200"/>
                <a:tab algn="l" pos="2622600"/>
                <a:tab algn="l" pos="3537000"/>
                <a:tab algn="l" pos="4451400"/>
                <a:tab algn="l" pos="5365800"/>
                <a:tab algn="l" pos="6280200"/>
                <a:tab algn="l" pos="7194600"/>
                <a:tab algn="l" pos="8109000"/>
                <a:tab algn="l" pos="9023400"/>
                <a:tab algn="l" pos="99378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nt to compute the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osterior prob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0">
              <a:lnSpc>
                <a:spcPct val="120000"/>
              </a:lnSpc>
              <a:buNone/>
              <a:tabLst>
                <a:tab algn="l" pos="0"/>
                <a:tab algn="l" pos="793800"/>
                <a:tab algn="l" pos="1708200"/>
                <a:tab algn="l" pos="2622600"/>
                <a:tab algn="l" pos="3537000"/>
                <a:tab algn="l" pos="4451400"/>
                <a:tab algn="l" pos="5365800"/>
                <a:tab algn="l" pos="6280200"/>
                <a:tab algn="l" pos="7194600"/>
                <a:tab algn="l" pos="8109000"/>
                <a:tab algn="l" pos="9023400"/>
                <a:tab algn="l" pos="99378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708200"/>
                <a:tab algn="l" pos="2622600"/>
                <a:tab algn="l" pos="3537000"/>
                <a:tab algn="l" pos="4451400"/>
                <a:tab algn="l" pos="5365800"/>
                <a:tab algn="l" pos="6280200"/>
                <a:tab algn="l" pos="7194600"/>
                <a:tab algn="l" pos="8109000"/>
                <a:tab algn="l" pos="9023400"/>
                <a:tab algn="l" pos="99378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yes’ theorem (formula 1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708200"/>
                <a:tab algn="l" pos="2622600"/>
                <a:tab algn="l" pos="3537000"/>
                <a:tab algn="l" pos="4451400"/>
                <a:tab algn="l" pos="5365800"/>
                <a:tab algn="l" pos="6280200"/>
                <a:tab algn="l" pos="7194600"/>
                <a:tab algn="l" pos="8109000"/>
                <a:tab algn="l" pos="9023400"/>
                <a:tab algn="l" pos="99378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the purpose is to find which of the n hypothe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0">
              <a:lnSpc>
                <a:spcPct val="120000"/>
              </a:lnSpc>
              <a:buNone/>
              <a:tabLst>
                <a:tab algn="l" pos="0"/>
                <a:tab algn="l" pos="793800"/>
                <a:tab algn="l" pos="1708200"/>
                <a:tab algn="l" pos="2622600"/>
                <a:tab algn="l" pos="3537000"/>
                <a:tab algn="l" pos="4451400"/>
                <a:tab algn="l" pos="5365800"/>
                <a:tab algn="l" pos="6280200"/>
                <a:tab algn="l" pos="7194600"/>
                <a:tab algn="l" pos="8109000"/>
                <a:tab algn="l" pos="9023400"/>
                <a:tab algn="l" pos="99378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more plausible given    </a:t>
            </a: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then we can ignore the denominator and  rank them use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elative likeliho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1895400" y="1527120"/>
                <a:ext cx="681516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              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                 hypotheses</m:t>
                        </m:r>
                      </m:e>
                      <m:e/>
                      <m:e/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evidence/manifestation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 flipH="1">
            <a:off x="2169720" y="1900080"/>
            <a:ext cx="1274760" cy="7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57520" y="1928880"/>
            <a:ext cx="1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686040" y="1928880"/>
            <a:ext cx="971640" cy="65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3581280" y="4800600"/>
                <a:ext cx="4245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5562720" y="5181480"/>
                <a:ext cx="111096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H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2816280" y="5943600"/>
                <a:ext cx="35114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6058080" y="3095640"/>
                <a:ext cx="7999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6095880" y="3498840"/>
                <a:ext cx="12448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968480" y="1927080"/>
                <a:ext cx="114444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6095880" y="3865680"/>
                <a:ext cx="12448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3790800" y="1590840"/>
                <a:ext cx="72864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971800" y="5486400"/>
                <a:ext cx="3780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yes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or Probability it will r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H) = 0.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 probabili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ese on the lake, given rain tomo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E|H) = 0.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ese on lake, with no rain tomo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E | ~H) = 0.0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yes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E) = P(E | H) * P(H) + P(E | ~H) * P(~H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(0.02)*(0.8) + (0.025)*(0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(0.016) + (0.005) = 0.0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erior prob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in given geese on l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H | E) = (P( E | H) * P(H)) / P(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(0.016 / 0.02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.76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yes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erior prob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rain given geese on l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~H | E) = (P( E | ~H) * P(~H)) / P(E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(0.005 / 0.021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.238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yesian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28600" y="2590920"/>
            <a:ext cx="8763120" cy="2884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181480" y="2971800"/>
            <a:ext cx="38124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019920" y="4037040"/>
            <a:ext cx="3808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yesian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p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: Clanking S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: Low pick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: Starting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4: Parts are hard to f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: Repair Estimate &gt; $2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yeisan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mediate Hypothe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1: Thrown connecting r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2: Wrist Pin Lo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3: Car Out of Tu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ary Hypothe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4: Replace or Rebuild Eng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5: Tune Eng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 of the ar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Kinds of uncertaint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Not related to agent/per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Non-discre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Probabilistic (several types!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Fuzzy (possibilisti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Discre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2716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Multi-valued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Default 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2716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Other model-based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Related to agent/per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Logic of knowle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Other “meta”-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 flipV="1">
            <a:off x="3046320" y="2970000"/>
            <a:ext cx="3355920" cy="30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629400" y="2649600"/>
            <a:ext cx="16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non-discr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21400" y="3962520"/>
            <a:ext cx="17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discrete stu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2512800" y="3884760"/>
            <a:ext cx="2060280" cy="15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530760" y="5394240"/>
            <a:ext cx="232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knowledge log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3884400" y="5256360"/>
            <a:ext cx="267012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yeisan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must be known in adv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P(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P(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S |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for i = 1, 2,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d using Bayes formu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S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(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(S |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 S) for i = 1, 2,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yesian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4: Replace or Rebuild Eng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H4) = P(H1 or H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max(P(H1 | S), P(H2 | S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5: Tune Eng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H5) = not (H1 or H2) and H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min(1 – max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H1 | S), P(H2 | S)), P(H3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air Estimate &gt; $2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C1) = P(H4 or P(H5 and S4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max(P(H4 | S), min(P(H5 | S), 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: V = 1 if S4 is true and 0 other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Datalog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2286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.7 term(d1,i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.8 term(d1,db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.5 link(d2,d1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bout(D,T):- term(D,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bout(D,T):- link(D,D1), about(D1,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00720" y="1514520"/>
            <a:ext cx="281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ple Progra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1440" y="4495680"/>
            <a:ext cx="249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ry/Answ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5105520"/>
            <a:ext cx="7696440" cy="825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:- term(X,ir) &amp; term(X,db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= 0.56 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Datalog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2286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.7 term(d1,i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.8 term(d1,db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.5 link(d2,d1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bout(D,T):- term(D,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bout(D,T):- link(D,D1), about(D1,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00720" y="1514520"/>
            <a:ext cx="281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ple Progra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1440" y="4419720"/>
            <a:ext cx="249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ry/Answ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90720" y="4952880"/>
            <a:ext cx="7696080" cy="15570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(X):- term(X,i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(X):- term(X,db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:-q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= 0.94 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Datalog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2286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.7 term(d1,i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.8 term(d1,db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.5 link(d2,d1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bout(D,T):- term(D,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bout(D,T):- link(D,D1), about(D1,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00720" y="1514520"/>
            <a:ext cx="281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ple Progra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91440" y="4495680"/>
            <a:ext cx="249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ry/Answ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66680" y="5105520"/>
            <a:ext cx="7696440" cy="11912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:- about(X,db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= 0.8 d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= 0.4 d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Datalog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2286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.7 term(d1,i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.8 term(d1,db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.5 link(d2,d1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bout(D,T):- term(D,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bout(D,T):- link(D,D1), about(D1,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00720" y="1514520"/>
            <a:ext cx="281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ple Progra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91440" y="4495680"/>
            <a:ext cx="249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ry/Answ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5105520"/>
            <a:ext cx="7696440" cy="11912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:- about(X,db)&amp; about(X,i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= 0.56 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= 0.28 d2  # NOT 0.14 = 0.7*0.5*0.8*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Datalog: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ible Worlds Seman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ts of restrictions (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statements are either independent or disj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271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clear how this is distinguished syntact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 probabilit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s to carry a lot of information along to support reasoning because of independence assum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akness of Bayes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icult to get all apriori conditional and joint probabilities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 of priorities is hard to modify because of large number of inter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ts of calculations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comes must be disj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uracy depends on complete hypo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00200" y="49356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Times New Roman"/>
              </a:rPr>
              <a:t>Related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b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0320" y="1337760"/>
            <a:ext cx="800100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708200"/>
                <a:tab algn="l" pos="2622600"/>
                <a:tab algn="l" pos="3537000"/>
                <a:tab algn="l" pos="4451400"/>
                <a:tab algn="l" pos="5365800"/>
                <a:tab algn="l" pos="6280200"/>
                <a:tab algn="l" pos="7194600"/>
                <a:tab algn="l" pos="8109000"/>
                <a:tab algn="l" pos="9023400"/>
                <a:tab algn="l" pos="99378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init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ncyclopedi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ritannica): reasoning that derives an explanatory hypothesis from a given set of fa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93800"/>
                <a:tab algn="l" pos="1708200"/>
                <a:tab algn="l" pos="2622600"/>
                <a:tab algn="l" pos="3537000"/>
                <a:tab algn="l" pos="4451400"/>
                <a:tab algn="l" pos="5365800"/>
                <a:tab algn="l" pos="6280200"/>
                <a:tab algn="l" pos="7194600"/>
                <a:tab algn="l" pos="8109000"/>
                <a:tab algn="l" pos="9023400"/>
                <a:tab algn="l" pos="99378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nference result is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ypothesis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ich if true, coul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xpla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 occurrence of the given fa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93800"/>
                <a:tab algn="l" pos="1708200"/>
                <a:tab algn="l" pos="2622600"/>
                <a:tab algn="l" pos="3537000"/>
                <a:tab algn="l" pos="4451400"/>
                <a:tab algn="l" pos="5365800"/>
                <a:tab algn="l" pos="6280200"/>
                <a:tab algn="l" pos="7194600"/>
                <a:tab algn="l" pos="8109000"/>
                <a:tab algn="l" pos="9023400"/>
                <a:tab algn="l" pos="99378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708200"/>
                <a:tab algn="l" pos="2622600"/>
                <a:tab algn="l" pos="3537000"/>
                <a:tab algn="l" pos="4451400"/>
                <a:tab algn="l" pos="5365800"/>
                <a:tab algn="l" pos="6280200"/>
                <a:tab algn="l" pos="7194600"/>
                <a:tab algn="l" pos="8109000"/>
                <a:tab algn="l" pos="9023400"/>
                <a:tab algn="l" pos="99378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93800"/>
                <a:tab algn="l" pos="1708200"/>
                <a:tab algn="l" pos="2622600"/>
                <a:tab algn="l" pos="3537000"/>
                <a:tab algn="l" pos="4451400"/>
                <a:tab algn="l" pos="5365800"/>
                <a:tab algn="l" pos="6280200"/>
                <a:tab algn="l" pos="7194600"/>
                <a:tab algn="l" pos="8109000"/>
                <a:tab algn="l" pos="9023400"/>
                <a:tab algn="l" pos="99378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ndral, an expert system to construct 3D structure of chemical compoun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2960" indent="-233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708200"/>
                <a:tab algn="l" pos="2622600"/>
                <a:tab algn="l" pos="3537000"/>
                <a:tab algn="l" pos="4451400"/>
                <a:tab algn="l" pos="5365800"/>
                <a:tab algn="l" pos="6280200"/>
                <a:tab algn="l" pos="7194600"/>
                <a:tab algn="l" pos="8109000"/>
                <a:tab algn="l" pos="9023400"/>
                <a:tab algn="l" pos="99378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t: mass spectrometer data of the compound and its chemical form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2960" indent="-233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708200"/>
                <a:tab algn="l" pos="2622600"/>
                <a:tab algn="l" pos="3537000"/>
                <a:tab algn="l" pos="4451400"/>
                <a:tab algn="l" pos="5365800"/>
                <a:tab algn="l" pos="6280200"/>
                <a:tab algn="l" pos="7194600"/>
                <a:tab algn="l" pos="8109000"/>
                <a:tab algn="l" pos="9023400"/>
                <a:tab algn="l" pos="99378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B: chemistry, esp. strength of different types of bou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2960" indent="-233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708200"/>
                <a:tab algn="l" pos="2622600"/>
                <a:tab algn="l" pos="3537000"/>
                <a:tab algn="l" pos="4451400"/>
                <a:tab algn="l" pos="5365800"/>
                <a:tab algn="l" pos="6280200"/>
                <a:tab algn="l" pos="7194600"/>
                <a:tab algn="l" pos="8109000"/>
                <a:tab algn="l" pos="9023400"/>
                <a:tab algn="l" pos="99378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soning: form a hypothetical 3D structure which meet the given chemical formula, and would most likely produce the given mass spectrum if subjected to electron beam bombard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75920" y="1037880"/>
            <a:ext cx="80010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ical diagno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271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ts: symptoms, lab test results, and other observed findings (called manifestati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271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B: causal associations between diseases and manife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271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soning: one or more diseases whose presence would causally explain the occurrence of the given manife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y other reasoning processes (e.g., word sense disambiguation in natural language process, image understanding, detective’s work, etc.) can also been seen as abductive reasoning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Probabilistic Reaso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evant world or domain is rand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knowledge does not allow us to describe situation more precis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evant domain is not random, rarely have access to enough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ments too costly or too danger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main is not random, just not described in sufficient det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get more knowledge into th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00200" y="164880"/>
            <a:ext cx="777240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ing abduction, deduction and in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0320" y="1123920"/>
            <a:ext cx="8001000" cy="52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0">
              <a:spcBef>
                <a:spcPts val="113"/>
              </a:spcBef>
              <a:buNone/>
              <a:tabLst>
                <a:tab algn="l" pos="0"/>
                <a:tab algn="l" pos="22536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duction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jor premise: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balls in the box are bl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113"/>
              </a:spcBef>
              <a:buNone/>
              <a:tabLst>
                <a:tab algn="l" pos="0"/>
                <a:tab algn="l" pos="22536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or premise: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se balls are from the bo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113"/>
              </a:spcBef>
              <a:buNone/>
              <a:tabLst>
                <a:tab algn="l" pos="0"/>
                <a:tab algn="l" pos="22536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clusion: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se balls are bl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113"/>
              </a:spcBef>
              <a:buNone/>
              <a:tabLst>
                <a:tab algn="l" pos="0"/>
                <a:tab algn="l" pos="22536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113"/>
              </a:spcBef>
              <a:buNone/>
              <a:tabLst>
                <a:tab algn="l" pos="0"/>
                <a:tab algn="l" pos="22536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bduction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rule: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balls in the box are bl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113"/>
              </a:spcBef>
              <a:buNone/>
              <a:tabLst>
                <a:tab algn="l" pos="0"/>
                <a:tab algn="l" pos="22536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servation: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se balls are bl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113"/>
              </a:spcBef>
              <a:buNone/>
              <a:tabLst>
                <a:tab algn="l" pos="0"/>
                <a:tab algn="l" pos="22536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lanation: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se balls are from the bo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113"/>
              </a:spcBef>
              <a:buNone/>
              <a:tabLst>
                <a:tab algn="l" pos="0"/>
                <a:tab algn="l" pos="22536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113"/>
              </a:spcBef>
              <a:buNone/>
              <a:tabLst>
                <a:tab algn="l" pos="0"/>
                <a:tab algn="l" pos="22536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113"/>
              </a:spcBef>
              <a:buNone/>
              <a:tabLst>
                <a:tab algn="l" pos="0"/>
                <a:tab algn="l" pos="22536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ction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case: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se balls are from the bo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113"/>
              </a:spcBef>
              <a:buNone/>
              <a:tabLst>
                <a:tab algn="l" pos="0"/>
                <a:tab algn="l" pos="22536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servation: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se balls are bl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113"/>
              </a:spcBef>
              <a:buNone/>
              <a:tabLst>
                <a:tab algn="l" pos="0"/>
                <a:tab algn="l" pos="22536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ypothesized rule: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ball</a:t>
            </a: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n the box are bl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451"/>
              </a:spcBef>
              <a:buNone/>
              <a:tabLst>
                <a:tab algn="l" pos="0"/>
                <a:tab algn="l" pos="22536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15080" y="1228680"/>
            <a:ext cx="928800" cy="1190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=&gt; B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-----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10400" y="2409840"/>
            <a:ext cx="1228680" cy="97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=&gt; B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---------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ssibly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01040" y="3465360"/>
            <a:ext cx="1228680" cy="162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henever A then B but not vice ver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---------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ssibl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=&gt;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1480" y="4800600"/>
            <a:ext cx="7300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duction:  from specific cases to general ru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bduction and deduction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oth from part of a specific case to other part o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case using general rules (in different way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42960" y="2365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racteristics of abductive reaso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90680" y="1009440"/>
            <a:ext cx="8229600" cy="54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025640"/>
                <a:tab algn="l" pos="1940040"/>
                <a:tab algn="l" pos="2854440"/>
                <a:tab algn="l" pos="3768840"/>
                <a:tab algn="l" pos="4683240"/>
                <a:tab algn="l" pos="5597640"/>
                <a:tab algn="l" pos="6512040"/>
                <a:tab algn="l" pos="7426440"/>
                <a:tab algn="l" pos="8340840"/>
                <a:tab algn="l" pos="9255240"/>
                <a:tab algn="l" pos="1016964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soning results ar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ypothes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not theorems (may be fal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ven 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ules and facts are true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9280" indent="-3812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1025640"/>
                <a:tab algn="l" pos="1940040"/>
                <a:tab algn="l" pos="2854440"/>
                <a:tab algn="l" pos="3768840"/>
                <a:tab algn="l" pos="4683240"/>
                <a:tab algn="l" pos="5597640"/>
                <a:tab algn="l" pos="6512040"/>
                <a:tab algn="l" pos="7426440"/>
                <a:tab algn="l" pos="8340840"/>
                <a:tab algn="l" pos="9255240"/>
                <a:tab algn="l" pos="1016964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, misdiagnosis in medic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9280" indent="0">
              <a:lnSpc>
                <a:spcPct val="90000"/>
              </a:lnSpc>
              <a:buNone/>
              <a:tabLst>
                <a:tab algn="l" pos="0"/>
                <a:tab algn="l" pos="1025640"/>
                <a:tab algn="l" pos="1940040"/>
                <a:tab algn="l" pos="2854440"/>
                <a:tab algn="l" pos="3768840"/>
                <a:tab algn="l" pos="4683240"/>
                <a:tab algn="l" pos="5597640"/>
                <a:tab algn="l" pos="6512040"/>
                <a:tab algn="l" pos="7426440"/>
                <a:tab algn="l" pos="8340840"/>
                <a:tab algn="l" pos="9255240"/>
                <a:tab algn="l" pos="1016964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025640"/>
                <a:tab algn="l" pos="1940040"/>
                <a:tab algn="l" pos="2854440"/>
                <a:tab algn="l" pos="3768840"/>
                <a:tab algn="l" pos="4683240"/>
                <a:tab algn="l" pos="5597640"/>
                <a:tab algn="l" pos="6512040"/>
                <a:tab algn="l" pos="7426440"/>
                <a:tab algn="l" pos="8340840"/>
                <a:tab algn="l" pos="9255240"/>
                <a:tab algn="l" pos="1016964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re may be multiple plausible hypothe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9280" indent="-3812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1025640"/>
                <a:tab algn="l" pos="1940040"/>
                <a:tab algn="l" pos="2854440"/>
                <a:tab algn="l" pos="3768840"/>
                <a:tab algn="l" pos="4683240"/>
                <a:tab algn="l" pos="5597640"/>
                <a:tab algn="l" pos="6512040"/>
                <a:tab algn="l" pos="7426440"/>
                <a:tab algn="l" pos="8340840"/>
                <a:tab algn="l" pos="9255240"/>
                <a:tab algn="l" pos="1016964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given rules A =&gt; B and C =&gt; B, and fact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9280" indent="0">
              <a:lnSpc>
                <a:spcPct val="90000"/>
              </a:lnSpc>
              <a:buNone/>
              <a:tabLst>
                <a:tab algn="l" pos="0"/>
                <a:tab algn="l" pos="1025640"/>
                <a:tab algn="l" pos="1940040"/>
                <a:tab algn="l" pos="2854440"/>
                <a:tab algn="l" pos="3768840"/>
                <a:tab algn="l" pos="4683240"/>
                <a:tab algn="l" pos="5597640"/>
                <a:tab algn="l" pos="6512040"/>
                <a:tab algn="l" pos="7426440"/>
                <a:tab algn="l" pos="8340840"/>
                <a:tab algn="l" pos="9255240"/>
                <a:tab algn="l" pos="1016964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A and C are plausible hypothes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9280" indent="-3812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1025640"/>
                <a:tab algn="l" pos="1940040"/>
                <a:tab algn="l" pos="2854440"/>
                <a:tab algn="l" pos="3768840"/>
                <a:tab algn="l" pos="4683240"/>
                <a:tab algn="l" pos="5597640"/>
                <a:tab algn="l" pos="6512040"/>
                <a:tab algn="l" pos="7426440"/>
                <a:tab algn="l" pos="8340840"/>
                <a:tab algn="l" pos="9255240"/>
                <a:tab algn="l" pos="1016964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duction is inherently uncert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9280" indent="-3812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1025640"/>
                <a:tab algn="l" pos="1940040"/>
                <a:tab algn="l" pos="2854440"/>
                <a:tab algn="l" pos="3768840"/>
                <a:tab algn="l" pos="4683240"/>
                <a:tab algn="l" pos="5597640"/>
                <a:tab algn="l" pos="6512040"/>
                <a:tab algn="l" pos="7426440"/>
                <a:tab algn="l" pos="8340840"/>
                <a:tab algn="l" pos="9255240"/>
                <a:tab algn="l" pos="1016964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ypotheses can be ranked by their plausibility if that can be determin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9280" indent="0">
              <a:lnSpc>
                <a:spcPct val="90000"/>
              </a:lnSpc>
              <a:buNone/>
              <a:tabLst>
                <a:tab algn="l" pos="0"/>
                <a:tab algn="l" pos="1025640"/>
                <a:tab algn="l" pos="1940040"/>
                <a:tab algn="l" pos="2854440"/>
                <a:tab algn="l" pos="3768840"/>
                <a:tab algn="l" pos="4683240"/>
                <a:tab algn="l" pos="5597640"/>
                <a:tab algn="l" pos="6512040"/>
                <a:tab algn="l" pos="7426440"/>
                <a:tab algn="l" pos="8340840"/>
                <a:tab algn="l" pos="9255240"/>
                <a:tab algn="l" pos="1016964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025640"/>
                <a:tab algn="l" pos="1940040"/>
                <a:tab algn="l" pos="2854440"/>
                <a:tab algn="l" pos="3768840"/>
                <a:tab algn="l" pos="4683240"/>
                <a:tab algn="l" pos="5597640"/>
                <a:tab algn="l" pos="6512040"/>
                <a:tab algn="l" pos="7426440"/>
                <a:tab algn="l" pos="8340840"/>
                <a:tab algn="l" pos="9255240"/>
                <a:tab algn="l" pos="1016964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asoning is often a Hypothesize- and-test cyc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9280" indent="-3812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1025640"/>
                <a:tab algn="l" pos="1940040"/>
                <a:tab algn="l" pos="2854440"/>
                <a:tab algn="l" pos="3768840"/>
                <a:tab algn="l" pos="4683240"/>
                <a:tab algn="l" pos="5597640"/>
                <a:tab algn="l" pos="6512040"/>
                <a:tab algn="l" pos="7426440"/>
                <a:tab algn="l" pos="8340840"/>
                <a:tab algn="l" pos="9255240"/>
                <a:tab algn="l" pos="1016964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ypothesize phase: postulate possible hypotheses, each of which could explain the given facts (or explain most of the important fac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9280" indent="-3812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1025640"/>
                <a:tab algn="l" pos="1940040"/>
                <a:tab algn="l" pos="2854440"/>
                <a:tab algn="l" pos="3768840"/>
                <a:tab algn="l" pos="4683240"/>
                <a:tab algn="l" pos="5597640"/>
                <a:tab algn="l" pos="6512040"/>
                <a:tab algn="l" pos="7426440"/>
                <a:tab algn="l" pos="8340840"/>
                <a:tab algn="l" pos="9255240"/>
                <a:tab algn="l" pos="1016964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 phase: test the plausibility of all or some of these hypothe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90680" y="652320"/>
            <a:ext cx="8229600" cy="58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buClr>
                <a:srgbClr val="000000"/>
              </a:buClr>
              <a:buFont typeface="Times New Roman"/>
              <a:buAutoNum type="arabicPeriod"/>
              <a:tabLst>
                <a:tab algn="l" pos="1025640"/>
                <a:tab algn="l" pos="1940040"/>
                <a:tab algn="l" pos="2854440"/>
                <a:tab algn="l" pos="3768840"/>
                <a:tab algn="l" pos="4683240"/>
                <a:tab algn="l" pos="5597640"/>
                <a:tab algn="l" pos="6512040"/>
                <a:tab algn="l" pos="7426440"/>
                <a:tab algn="l" pos="8340840"/>
                <a:tab algn="l" pos="9255240"/>
                <a:tab algn="l" pos="1016964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asoning is non-monoton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9280" indent="-381240">
              <a:buClr>
                <a:srgbClr val="000000"/>
              </a:buClr>
              <a:buFont typeface="Times New Roman"/>
              <a:buChar char="–"/>
              <a:tabLst>
                <a:tab algn="l" pos="1025640"/>
                <a:tab algn="l" pos="1940040"/>
                <a:tab algn="l" pos="2854440"/>
                <a:tab algn="l" pos="3768840"/>
                <a:tab algn="l" pos="4683240"/>
                <a:tab algn="l" pos="5597640"/>
                <a:tab algn="l" pos="6512040"/>
                <a:tab algn="l" pos="7426440"/>
                <a:tab algn="l" pos="8340840"/>
                <a:tab algn="l" pos="9255240"/>
                <a:tab algn="l" pos="1016964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usibility of hypotheses can increase/decrease as new facts are collected (deductive inference determines if a sentence is true but would never change its truth valu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9280" indent="-381240">
              <a:buClr>
                <a:srgbClr val="000000"/>
              </a:buClr>
              <a:buFont typeface="Times New Roman"/>
              <a:buChar char="–"/>
              <a:tabLst>
                <a:tab algn="l" pos="1025640"/>
                <a:tab algn="l" pos="1940040"/>
                <a:tab algn="l" pos="2854440"/>
                <a:tab algn="l" pos="3768840"/>
                <a:tab algn="l" pos="4683240"/>
                <a:tab algn="l" pos="5597640"/>
                <a:tab algn="l" pos="6512040"/>
                <a:tab algn="l" pos="7426440"/>
                <a:tab algn="l" pos="8340840"/>
                <a:tab algn="l" pos="9255240"/>
                <a:tab algn="l" pos="1016964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hypotheses may be discarded, and new ones may be formed when new observations are m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9280" indent="-381240">
              <a:buClr>
                <a:srgbClr val="000000"/>
              </a:buClr>
              <a:buFont typeface="Times New Roman"/>
              <a:buChar char="–"/>
              <a:tabLst>
                <a:tab algn="l" pos="1025640"/>
                <a:tab algn="l" pos="1940040"/>
                <a:tab algn="l" pos="2854440"/>
                <a:tab algn="l" pos="3768840"/>
                <a:tab algn="l" pos="4683240"/>
                <a:tab algn="l" pos="5597640"/>
                <a:tab algn="l" pos="6512040"/>
                <a:tab algn="l" pos="7426440"/>
                <a:tab algn="l" pos="8340840"/>
                <a:tab algn="l" pos="9255240"/>
                <a:tab algn="l" pos="1016964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way to test a hypothesis H is to query if some thing that is currently unknown but can be predicted from H is actually tr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2400" indent="-343080">
              <a:buClr>
                <a:srgbClr val="000000"/>
              </a:buClr>
              <a:buFont typeface="Times New Roman"/>
              <a:buChar char="•"/>
              <a:tabLst>
                <a:tab algn="l" pos="1025640"/>
                <a:tab algn="l" pos="1940040"/>
                <a:tab algn="l" pos="2854440"/>
                <a:tab algn="l" pos="3768840"/>
                <a:tab algn="l" pos="4683240"/>
                <a:tab algn="l" pos="5597640"/>
                <a:tab algn="l" pos="6512040"/>
                <a:tab algn="l" pos="7426440"/>
                <a:tab algn="l" pos="8340840"/>
                <a:tab algn="l" pos="9255240"/>
                <a:tab algn="l" pos="1016964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we also know A =&gt; D and C =&gt; E, then ask if D and E are tr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2400" indent="-343080">
              <a:buClr>
                <a:srgbClr val="000000"/>
              </a:buClr>
              <a:buFont typeface="Times New Roman"/>
              <a:buChar char="•"/>
              <a:tabLst>
                <a:tab algn="l" pos="1025640"/>
                <a:tab algn="l" pos="1940040"/>
                <a:tab algn="l" pos="2854440"/>
                <a:tab algn="l" pos="3768840"/>
                <a:tab algn="l" pos="4683240"/>
                <a:tab algn="l" pos="5597640"/>
                <a:tab algn="l" pos="6512040"/>
                <a:tab algn="l" pos="7426440"/>
                <a:tab algn="l" pos="8340840"/>
                <a:tab algn="l" pos="9255240"/>
                <a:tab algn="l" pos="1016964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it turns out D is true and E is false, then hypothesis A becomes more plausible (support for A increased, support for C decreas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42960" y="2365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ssessment of Assump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0680" y="1009440"/>
            <a:ext cx="8229600" cy="54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ssumption 1: hypotheses are mutually exclusive and exhaustiv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ngle fault assumption (one and only one hypothesis must tr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buClr>
                <a:srgbClr val="3333cc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Multi-faults do exist in individual c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be viewed as an approximation of situations where hypotheses are independent of each other and their prior probabilities are very sm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0"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0"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0"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0"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ssumption 2: pieces of evidence are conditionally independent of each other, given any hypothe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ifestations themselves are not independent of each other, they are correlated by their common cau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sonable under single fault assum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buClr>
                <a:srgbClr val="3333cc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Not so when multi-faults are to be conside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693720" y="2590920"/>
                <a:ext cx="775656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∧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0 if both 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are very small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Fuzzynes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is a pile of chalk bi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we have three pieces of chalk in the room is that considered a big pile of chalk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people might say, yes that is a big pile and some would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place between those three pieces of chalk and a whole room full of chalk the pile of chalk turns from a small pile into a big p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could be a different spot for different peop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zziness Handles Uncertain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rottweiler-retriever mix a rottweil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f we then breed with another retriever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 is “tall”?  Who is “very tall”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ic Spellman (5’9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hony Roberson (6’1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t Bonner (6’10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licting information:  Two sensors disagree about presence of land m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zzy Logic vs. Prob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s claim you should understand all uncertainty through probabil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zzy theorists point out difference between vagueness and randomnes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no chance involved in the previous examp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instance, not intuitive to talk about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babil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I’m t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 of (Crisp) Traditional S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redicate (ak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dicator fun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akes a set. 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bject is either in the set or not.  (It’s membership is 0/1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luded Midd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86400" y="2743200"/>
            <a:ext cx="3352680" cy="2133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91320" y="3657600"/>
            <a:ext cx="1523880" cy="990720"/>
          </a:xfrm>
          <a:prstGeom prst="ellipse">
            <a:avLst/>
          </a:prstGeom>
          <a:solidFill>
            <a:srgbClr val="00cc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467480" y="2895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467480" y="3733920"/>
            <a:ext cx="101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6856200" y="4114800"/>
            <a:ext cx="68868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26280" y="1981080"/>
            <a:ext cx="109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ll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21360" y="5105520"/>
            <a:ext cx="213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s in T i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ll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is 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276720"/>
            <a:ext cx="30492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295280" y="5638680"/>
                <a:ext cx="304812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∩</m:t>
                        </m:r>
                        <m:r>
                          <m:t xml:space="preserve">¬</m:t>
                        </m:r>
                        <m:r>
                          <m:rPr>
                            <m:lit/>
                            <m:nor/>
                          </m:rPr>
                          <m:t xml:space="preserve">T=</m:t>
                        </m:r>
                        <m:d>
                          <m:dPr>
                            <m:begChr m:val="{"/>
                            <m:endChr m:val="}"/>
                          </m:dPr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all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t xml:space="preserve">¬</m:t>
                        </m:r>
                        <m:r>
                          <m:rPr>
                            <m:lit/>
                            <m:nor/>
                          </m:rPr>
                          <m:t xml:space="preserve">tall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9368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zzy sets and fuzzy log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1360" y="819000"/>
            <a:ext cx="8701200" cy="54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inary set the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0">
              <a:spcBef>
                <a:spcPts val="87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0">
              <a:spcBef>
                <a:spcPts val="87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0">
              <a:spcBef>
                <a:spcPts val="87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0">
              <a:spcBef>
                <a:spcPts val="25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0"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0"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are sets that are described by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vague linguistic term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sets without hard, clearly defined boundaries), e.g., tall-person, fast-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27160"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in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27160"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jective (context depend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27160"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rd to define a clear-cut 0/1 membership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782640" y="2468520"/>
                <a:ext cx="407520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edicate 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     if </m:t>
                            </m:r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r>
                              <m:t xml:space="preserve">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0     otherwise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3000240" y="2895480"/>
            <a:ext cx="20005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797040" y="3403440"/>
                <a:ext cx="67467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hen it is uncertain if 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 , use probability 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995400" y="1143000"/>
                <a:ext cx="8148600" cy="11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     if 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A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  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0     otherwise</m:t>
                                </m:r>
                              </m:den>
                            </m:f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is called the characteristic or membership function of set 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1981080" y="1676520"/>
            <a:ext cx="20005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42960" y="45684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zzy set the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0">
              <a:spcBef>
                <a:spcPts val="87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ight(john) = 6’5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ll(john) = 0.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ight(harry) = 5’8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ll(harry) = 0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ight(joe) = 5’1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ll(joe) = 0.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s of membership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1752480" y="914400"/>
                <a:ext cx="606276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lax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from binary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, 1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to continuous 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0, 1</m:t>
                        </m:r>
                        <m:r>
                          <m:t xml:space="preserve">]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tands for the degree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is thought to belong to set 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2543040" y="1714680"/>
            <a:ext cx="20005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43480" y="2895480"/>
            <a:ext cx="200016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643040" y="3328560"/>
            <a:ext cx="6589800" cy="3301560"/>
            <a:chOff x="1643040" y="3328560"/>
            <a:chExt cx="6589800" cy="3301560"/>
          </a:xfrm>
        </p:grpSpPr>
        <p:sp>
          <p:nvSpPr>
            <p:cNvPr id="175" name=""/>
            <p:cNvSpPr/>
            <p:nvPr/>
          </p:nvSpPr>
          <p:spPr>
            <a:xfrm flipV="1">
              <a:off x="1871640" y="3328560"/>
              <a:ext cx="0" cy="78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1643040" y="3404880"/>
              <a:ext cx="6570720" cy="1034280"/>
              <a:chOff x="1643040" y="3404880"/>
              <a:chExt cx="6570720" cy="1034280"/>
            </a:xfrm>
          </p:grpSpPr>
          <p:sp>
            <p:nvSpPr>
              <p:cNvPr id="177" name=""/>
              <p:cNvSpPr/>
              <p:nvPr/>
            </p:nvSpPr>
            <p:spPr>
              <a:xfrm>
                <a:off x="1871640" y="4116240"/>
                <a:ext cx="3670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915160" y="3587760"/>
                <a:ext cx="2298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Set of teenager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9" name=""/>
              <p:cNvGrpSpPr/>
              <p:nvPr/>
            </p:nvGrpSpPr>
            <p:grpSpPr>
              <a:xfrm>
                <a:off x="1871640" y="3558960"/>
                <a:ext cx="3122640" cy="555840"/>
                <a:chOff x="1871640" y="3558960"/>
                <a:chExt cx="3122640" cy="55584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1871640" y="4114800"/>
                  <a:ext cx="1098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V="1">
                  <a:off x="2971800" y="3558960"/>
                  <a:ext cx="0" cy="555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2971800" y="3560040"/>
                  <a:ext cx="936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 flipV="1">
                  <a:off x="3895560" y="3558960"/>
                  <a:ext cx="0" cy="555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3895560" y="4114800"/>
                  <a:ext cx="1098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5" name=""/>
              <p:cNvSpPr/>
              <p:nvPr/>
            </p:nvSpPr>
            <p:spPr>
              <a:xfrm>
                <a:off x="1785960" y="4101840"/>
                <a:ext cx="4041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0                 12               1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643040" y="3404880"/>
                <a:ext cx="569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 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1881360" y="5197320"/>
              <a:ext cx="367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924520" y="4668840"/>
              <a:ext cx="229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t of young peo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795320" y="5182920"/>
              <a:ext cx="4042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                 12               1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652760" y="4485960"/>
              <a:ext cx="56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 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1881360" y="4400280"/>
              <a:ext cx="0" cy="78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890720" y="6306840"/>
              <a:ext cx="367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934240" y="5778360"/>
              <a:ext cx="2298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t of mid-age peo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805040" y="6292800"/>
              <a:ext cx="404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0         35       50        65        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662120" y="5595840"/>
              <a:ext cx="56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 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1890720" y="5509800"/>
              <a:ext cx="0" cy="78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928880" y="4673520"/>
              <a:ext cx="2927160" cy="512640"/>
            </a:xfrm>
            <a:custGeom>
              <a:avLst/>
              <a:gdLst/>
              <a:ahLst/>
              <a:rect l="l" t="t" r="r" b="b"/>
              <a:pathLst>
                <a:path w="1845" h="324">
                  <a:moveTo>
                    <a:pt x="0" y="0"/>
                  </a:moveTo>
                  <a:cubicBezTo>
                    <a:pt x="192" y="12"/>
                    <a:pt x="384" y="25"/>
                    <a:pt x="603" y="72"/>
                  </a:cubicBezTo>
                  <a:cubicBezTo>
                    <a:pt x="822" y="119"/>
                    <a:pt x="1107" y="237"/>
                    <a:pt x="1314" y="279"/>
                  </a:cubicBezTo>
                  <a:cubicBezTo>
                    <a:pt x="1521" y="321"/>
                    <a:pt x="1751" y="315"/>
                    <a:pt x="1845" y="324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00160" y="5538600"/>
              <a:ext cx="2984760" cy="747720"/>
            </a:xfrm>
            <a:custGeom>
              <a:avLst/>
              <a:gdLst/>
              <a:ahLst/>
              <a:rect l="l" t="t" r="r" b="b"/>
              <a:pathLst>
                <a:path w="1881" h="472">
                  <a:moveTo>
                    <a:pt x="0" y="436"/>
                  </a:moveTo>
                  <a:cubicBezTo>
                    <a:pt x="221" y="425"/>
                    <a:pt x="443" y="415"/>
                    <a:pt x="576" y="355"/>
                  </a:cubicBezTo>
                  <a:cubicBezTo>
                    <a:pt x="709" y="295"/>
                    <a:pt x="737" y="130"/>
                    <a:pt x="801" y="76"/>
                  </a:cubicBezTo>
                  <a:cubicBezTo>
                    <a:pt x="865" y="22"/>
                    <a:pt x="902" y="0"/>
                    <a:pt x="963" y="31"/>
                  </a:cubicBezTo>
                  <a:cubicBezTo>
                    <a:pt x="1024" y="62"/>
                    <a:pt x="1116" y="205"/>
                    <a:pt x="1170" y="265"/>
                  </a:cubicBezTo>
                  <a:cubicBezTo>
                    <a:pt x="1224" y="325"/>
                    <a:pt x="1169" y="357"/>
                    <a:pt x="1287" y="391"/>
                  </a:cubicBezTo>
                  <a:cubicBezTo>
                    <a:pt x="1405" y="425"/>
                    <a:pt x="1782" y="459"/>
                    <a:pt x="1881" y="47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rtainty Factor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are certainties associated with rule inputs (e.g. antecedents)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es the rule translate input certainty to output certainty (i.e. how deterministic is the rule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you determine the certainty of facts supported by several rul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ng Fuzzy Sets (Logic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bject is i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t to a deg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uzzy set is an underlying crisp set and a membership function which assigns memberships in [0,1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member of s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ith degre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bbreviated 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(x) = 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hing can be both tall and not ta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redefine many math concep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, fuzzy differential eq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guistic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for representing qualitative measurements, like short, average, tall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fuzzy sets defined on a real interv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linguistic value becomes a fuzzy s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ight as a Linguistic Vari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066680" y="5715000"/>
            <a:ext cx="655344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14600" y="548640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11480" y="594360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’4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86200" y="548640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83080" y="594360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’8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86200" y="548640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548640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54680" y="594360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’0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257800" y="548640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629400" y="548640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326280" y="594360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’4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1066680" y="2817720"/>
            <a:ext cx="1800" cy="2898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30040" y="54864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30040" y="29718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772400" y="5486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22096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emb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514600" y="3200400"/>
            <a:ext cx="213372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86200" y="3200400"/>
            <a:ext cx="213372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1750680" y="3200400"/>
            <a:ext cx="213660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81480" y="3200400"/>
            <a:ext cx="213372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3046320" y="3200400"/>
            <a:ext cx="213696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70200" y="3200400"/>
            <a:ext cx="213660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1065240" y="3200400"/>
            <a:ext cx="14508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05720" y="3200400"/>
            <a:ext cx="8380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97080" y="26668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52680" y="266688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876920" y="266688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629760" y="2590920"/>
            <a:ext cx="12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ry t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191120" y="3198600"/>
            <a:ext cx="1440" cy="25174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zzy Set Oper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33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define union, intersection, compl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different choices.  Two common families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3581280" y="3276720"/>
          <a:ext cx="5334120" cy="153036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88880">
                <a:tc>
                  <a:txBody>
                    <a:bodyPr lIns="90000" rIns="90000" tIns="68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+b-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du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990720" y="4800600"/>
                <a:ext cx="7837200" cy="18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,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∪</m:t>
                        </m:r>
                        <m:r>
                          <m:t xml:space="preserve">¬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,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∪</m:t>
                        </m:r>
                        <m:r>
                          <m:t xml:space="preserve">¬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6862320" y="4800600"/>
            <a:ext cx="228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“standard fuzz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ion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763120" y="4038480"/>
            <a:ext cx="144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8380080" y="4038480"/>
            <a:ext cx="38412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642960" y="51876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zzy logic: many-value log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3680" indent="-281160"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zzy predicates (degree of tru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3680" indent="-281160"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nectors/Operat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3680"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0">
              <a:spcBef>
                <a:spcPts val="32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325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re with probability the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3680" indent="-281160">
              <a:spcBef>
                <a:spcPts val="125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.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Uncertainty of outcom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0040" indent="-224640">
              <a:spcBef>
                <a:spcPts val="125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large # of repetitions or insta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0040" indent="-224640">
              <a:spcBef>
                <a:spcPts val="125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experiment (instance), the outcome is either true or false (without uncertainty or ambigu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0040" indent="0">
              <a:spcBef>
                <a:spcPts val="1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sure before it happens but sure after it happ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3680" indent="0">
              <a:spcBef>
                <a:spcPts val="1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zzy: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vagueness of conceptual/linguistic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0040" indent="-224640">
              <a:spcBef>
                <a:spcPts val="125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sure even after it happ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0040" indent="0">
              <a:spcBef>
                <a:spcPts val="1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ther a child of tall mother and short father is tal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0040" indent="0">
              <a:spcBef>
                <a:spcPts val="1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sure before the child is bo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0040" indent="0">
              <a:spcBef>
                <a:spcPts val="1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sure after grown up (height = 5’6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5105520" y="762120"/>
                <a:ext cx="2789280" cy="40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y if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y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1530360" y="1593720"/>
                <a:ext cx="609444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 negation: 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njunction: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,F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disjunction: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∨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,F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zzy Im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ication can be defined several way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will start with the familiar definition in terms of union and complem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standard fuzzy oper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uild forward/backward chaining syst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1617840" y="3505320"/>
                <a:ext cx="46749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→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¬</m:t>
                    </m:r>
                    <m:r>
                      <m:t xml:space="preserve">A</m:t>
                    </m:r>
                    <m:r>
                      <m:t xml:space="preserve">∪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1600200" y="4572000"/>
                <a:ext cx="589608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→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,B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642960" y="519120"/>
            <a:ext cx="8229600" cy="62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-28404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pirical vs subjective (testable vs agreea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zzy set connectors may lead to unreasonable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2716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 two events A and B with P(A) &lt; P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2716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=&gt; B (or 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)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0"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A ^ B) = P(A) = min{P(A), P(B)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0"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A v B) = P(B) = max{P(A), P(B)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2716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the case in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0"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A ^ B) = P(A)P(B|A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(A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0"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A v B) = P(A) + P(B) – P(A ^ B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(B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0">
              <a:spcBef>
                <a:spcPts val="3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equality holds only if P(B|A) = 1, i.e., A =&gt; B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thing prob. theory cannot repres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2716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ll(john) = 0.9, ~Tall(john) = 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0"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ll(john) ^ ~Tall(john) = min{0.1, 0.9) = 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0"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hn’s degree of membership in the fuzzy set of “median-height people” (both Tall and not-Tal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2716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prob. theory: P(joh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all ^ joh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ll)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-valued log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tfi Zadeh (@ UC Berkeley) coins term in late 60’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cess in control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1371600" y="1981080"/>
            <a:ext cx="2570040" cy="37339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679040" y="5816520"/>
            <a:ext cx="198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tfi Zade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zzy logic offers us a way to deal with uncertain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ds idea of truth and membership to values between zero and 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s new operations for union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successfully in control syst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"/>
          <p:cNvGrpSpPr/>
          <p:nvPr/>
        </p:nvGrpSpPr>
        <p:grpSpPr>
          <a:xfrm>
            <a:off x="457200" y="228600"/>
            <a:ext cx="7999560" cy="6399360"/>
            <a:chOff x="457200" y="228600"/>
            <a:chExt cx="7999560" cy="6399360"/>
          </a:xfrm>
        </p:grpSpPr>
        <p:grpSp>
          <p:nvGrpSpPr>
            <p:cNvPr id="255" name=""/>
            <p:cNvGrpSpPr/>
            <p:nvPr/>
          </p:nvGrpSpPr>
          <p:grpSpPr>
            <a:xfrm>
              <a:off x="463680" y="233280"/>
              <a:ext cx="7985880" cy="6388200"/>
              <a:chOff x="463680" y="233280"/>
              <a:chExt cx="7985880" cy="6388200"/>
            </a:xfrm>
          </p:grpSpPr>
          <p:grpSp>
            <p:nvGrpSpPr>
              <p:cNvPr id="256" name=""/>
              <p:cNvGrpSpPr/>
              <p:nvPr/>
            </p:nvGrpSpPr>
            <p:grpSpPr>
              <a:xfrm>
                <a:off x="463680" y="233280"/>
                <a:ext cx="2660400" cy="1041480"/>
                <a:chOff x="463680" y="233280"/>
                <a:chExt cx="2660400" cy="104148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554040" y="233280"/>
                  <a:ext cx="2479680" cy="104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463680" y="233280"/>
                  <a:ext cx="2660400" cy="10414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3126240" y="233280"/>
                <a:ext cx="2660400" cy="1041480"/>
                <a:chOff x="3126240" y="233280"/>
                <a:chExt cx="2660400" cy="104148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3216600" y="233280"/>
                  <a:ext cx="2479680" cy="104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t-EE" sz="2000" spc="-1" strike="noStrike">
                      <a:solidFill>
                        <a:srgbClr val="000000"/>
                      </a:solidFill>
                      <a:latin typeface="Times New Roman"/>
                    </a:rPr>
                    <a:t>Possibilistic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  Logic Dependen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Event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3126240" y="233280"/>
                  <a:ext cx="2660400" cy="10414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5788800" y="233280"/>
                <a:ext cx="2660760" cy="1041480"/>
                <a:chOff x="5788800" y="233280"/>
                <a:chExt cx="2660760" cy="104148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5879160" y="233280"/>
                  <a:ext cx="2479680" cy="104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Probabilistic Logic Independen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Event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5788800" y="233280"/>
                  <a:ext cx="2660760" cy="10414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" name=""/>
              <p:cNvGrpSpPr/>
              <p:nvPr/>
            </p:nvGrpSpPr>
            <p:grpSpPr>
              <a:xfrm>
                <a:off x="463680" y="1276200"/>
                <a:ext cx="2660400" cy="714600"/>
                <a:chOff x="463680" y="1276200"/>
                <a:chExt cx="2660400" cy="71460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554040" y="1276200"/>
                  <a:ext cx="2479680" cy="71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463680" y="1276200"/>
                  <a:ext cx="2660400" cy="7146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" name=""/>
              <p:cNvGrpSpPr/>
              <p:nvPr/>
            </p:nvGrpSpPr>
            <p:grpSpPr>
              <a:xfrm>
                <a:off x="3126240" y="1276200"/>
                <a:ext cx="2660400" cy="714600"/>
                <a:chOff x="3126240" y="1276200"/>
                <a:chExt cx="2660400" cy="71460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3216600" y="1276200"/>
                  <a:ext cx="2479680" cy="71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126240" y="1276200"/>
                  <a:ext cx="2660400" cy="7146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" name=""/>
              <p:cNvGrpSpPr/>
              <p:nvPr/>
            </p:nvGrpSpPr>
            <p:grpSpPr>
              <a:xfrm>
                <a:off x="5788800" y="1276200"/>
                <a:ext cx="2660760" cy="714600"/>
                <a:chOff x="5788800" y="1276200"/>
                <a:chExt cx="2660760" cy="71460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5879160" y="1276200"/>
                  <a:ext cx="2479680" cy="71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5788800" y="1276200"/>
                  <a:ext cx="2660760" cy="7146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" name=""/>
              <p:cNvGrpSpPr/>
              <p:nvPr/>
            </p:nvGrpSpPr>
            <p:grpSpPr>
              <a:xfrm>
                <a:off x="463680" y="1994040"/>
                <a:ext cx="2660400" cy="715680"/>
                <a:chOff x="463680" y="1994040"/>
                <a:chExt cx="2660400" cy="71568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554040" y="1994040"/>
                  <a:ext cx="2479680" cy="71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463680" y="1994040"/>
                  <a:ext cx="2660400" cy="7156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" name=""/>
              <p:cNvGrpSpPr/>
              <p:nvPr/>
            </p:nvGrpSpPr>
            <p:grpSpPr>
              <a:xfrm>
                <a:off x="3126240" y="1994040"/>
                <a:ext cx="2660400" cy="715680"/>
                <a:chOff x="3126240" y="1994040"/>
                <a:chExt cx="2660400" cy="71568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3216600" y="1994040"/>
                  <a:ext cx="2479680" cy="71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3126240" y="1994040"/>
                  <a:ext cx="2660400" cy="7156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5788800" y="1994040"/>
                <a:ext cx="2660760" cy="715680"/>
                <a:chOff x="5788800" y="1994040"/>
                <a:chExt cx="2660760" cy="71568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5879160" y="1994040"/>
                  <a:ext cx="2479680" cy="71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5788800" y="1994040"/>
                  <a:ext cx="2660760" cy="7156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463680" y="2711520"/>
                <a:ext cx="2660400" cy="716040"/>
                <a:chOff x="463680" y="2711520"/>
                <a:chExt cx="2660400" cy="71604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554040" y="2711520"/>
                  <a:ext cx="2479680" cy="71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not 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63680" y="2711520"/>
                  <a:ext cx="2660400" cy="716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3126240" y="2711520"/>
                <a:ext cx="2660400" cy="716040"/>
                <a:chOff x="3126240" y="2711520"/>
                <a:chExt cx="2660400" cy="71604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3216600" y="2711520"/>
                  <a:ext cx="2479680" cy="71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-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3126240" y="2711520"/>
                  <a:ext cx="2660400" cy="716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5788800" y="2711520"/>
                <a:ext cx="2660760" cy="716040"/>
                <a:chOff x="5788800" y="2711520"/>
                <a:chExt cx="2660760" cy="71604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5879160" y="2711520"/>
                  <a:ext cx="2479680" cy="71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 - 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5788800" y="2711520"/>
                  <a:ext cx="2660760" cy="716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463680" y="3429000"/>
                <a:ext cx="2660400" cy="716040"/>
                <a:chOff x="463680" y="3429000"/>
                <a:chExt cx="2660400" cy="71604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554040" y="3429000"/>
                  <a:ext cx="2479680" cy="71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A and 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463680" y="3429000"/>
                  <a:ext cx="2660400" cy="716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3126240" y="3429000"/>
                <a:ext cx="2660400" cy="716040"/>
                <a:chOff x="3126240" y="3429000"/>
                <a:chExt cx="2660400" cy="71604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3216600" y="3429000"/>
                  <a:ext cx="2479680" cy="71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min(a,b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3126240" y="3429000"/>
                  <a:ext cx="2660400" cy="716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5788800" y="3429000"/>
                <a:ext cx="2660760" cy="716040"/>
                <a:chOff x="5788800" y="3429000"/>
                <a:chExt cx="2660760" cy="71604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5879160" y="3429000"/>
                  <a:ext cx="2479680" cy="71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a * 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5788800" y="3429000"/>
                  <a:ext cx="2660760" cy="716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463680" y="4145040"/>
                <a:ext cx="2660400" cy="716040"/>
                <a:chOff x="463680" y="4145040"/>
                <a:chExt cx="2660400" cy="71604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554040" y="4145040"/>
                  <a:ext cx="2479680" cy="71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A or 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463680" y="4145040"/>
                  <a:ext cx="2660400" cy="716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3126240" y="4145040"/>
                <a:ext cx="2660400" cy="716040"/>
                <a:chOff x="3126240" y="4145040"/>
                <a:chExt cx="2660400" cy="71604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3216600" y="4145040"/>
                  <a:ext cx="2479680" cy="71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max(a,b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3126240" y="4145040"/>
                  <a:ext cx="2660400" cy="716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5788800" y="4145040"/>
                <a:ext cx="2660760" cy="716040"/>
                <a:chOff x="5788800" y="4145040"/>
                <a:chExt cx="2660760" cy="71604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5879160" y="4145040"/>
                  <a:ext cx="2479680" cy="71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a + b – a*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5788800" y="4145040"/>
                  <a:ext cx="2660760" cy="716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463680" y="4862520"/>
                <a:ext cx="2660400" cy="716040"/>
                <a:chOff x="463680" y="4862520"/>
                <a:chExt cx="2660400" cy="71604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554040" y="4862520"/>
                  <a:ext cx="2479680" cy="71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A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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 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not A or (A and B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463680" y="4862520"/>
                  <a:ext cx="2660400" cy="716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3126240" y="4862520"/>
                <a:ext cx="2660400" cy="716040"/>
                <a:chOff x="3126240" y="4862520"/>
                <a:chExt cx="2660400" cy="71604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3216600" y="4862520"/>
                  <a:ext cx="2479680" cy="71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max(1 - a, b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126240" y="4862520"/>
                  <a:ext cx="2660400" cy="716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5788800" y="4862520"/>
                <a:ext cx="2660760" cy="716040"/>
                <a:chOff x="5788800" y="4862520"/>
                <a:chExt cx="2660760" cy="71604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5879160" y="4862520"/>
                  <a:ext cx="2479680" cy="71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(1 - a) + a * 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5788800" y="4862520"/>
                  <a:ext cx="2660760" cy="716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463680" y="5580000"/>
                <a:ext cx="2660400" cy="1041480"/>
                <a:chOff x="463680" y="5580000"/>
                <a:chExt cx="2660400" cy="104148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554040" y="5580000"/>
                  <a:ext cx="2479680" cy="104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A xor 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463680" y="5580000"/>
                  <a:ext cx="2660400" cy="10414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3126240" y="5580000"/>
                <a:ext cx="2660400" cy="1041480"/>
                <a:chOff x="3126240" y="5580000"/>
                <a:chExt cx="2660400" cy="104148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3216600" y="5580000"/>
                  <a:ext cx="2479680" cy="104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max(min(a, 1 - b),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    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min(1 - a, b)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126240" y="5580000"/>
                  <a:ext cx="2660400" cy="10414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5788800" y="5580000"/>
                <a:ext cx="2660760" cy="1041480"/>
                <a:chOff x="5788800" y="5580000"/>
                <a:chExt cx="2660760" cy="104148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879160" y="5580000"/>
                  <a:ext cx="2479680" cy="104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a+b-2ab+a</a:t>
                  </a:r>
                  <a:r>
                    <a:rPr b="0" lang="en-US" sz="20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b+ab</a:t>
                  </a:r>
                  <a:r>
                    <a:rPr b="0" lang="en-US" sz="20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-a</a:t>
                  </a:r>
                  <a:r>
                    <a:rPr b="0" lang="en-US" sz="20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0" lang="en-US" sz="20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5788800" y="5580000"/>
                  <a:ext cx="2660760" cy="10414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8" name=""/>
            <p:cNvSpPr/>
            <p:nvPr/>
          </p:nvSpPr>
          <p:spPr>
            <a:xfrm>
              <a:off x="457200" y="228600"/>
              <a:ext cx="7999560" cy="63993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 Hoc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um of value on the interval [0,1] associated with each rule antecedent is a rule’s input certain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some attenuation or deterministic rule will be used as a multiplier to map input certainty to output certain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several rules support the same fact the maximum 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 the rule output certainties will be the overall certainty of the f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sibilistic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X) = 0.5, P(Y) = 0.1, P(Z) = 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Y or Z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Y or Z) = max(P(Y), P(Z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max(0.1, 0.2) = 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X or Z)) = max(1 – P(X), P(Y or Z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max(1 – 0.5, 0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max(0.5, 0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0.5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X) = 0.5, P(Y) = 0.1, P(Z) = 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Y or Z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X or Z) = P(Y) + P(Z) – P(Y) * P(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0.1 + 0.2 – 0.1 * 0.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0.3 – 0.02 = 0.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Y or Z)) = not P(X) + P(X) * P(Y or Z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(1 – 0.5) + 0.2 * 0.2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0.5 + 0.14 = 0.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 Hoc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8686800" cy="361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 Hoc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 A1 translates input to 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0.9) * (1.0) = 0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 A2 translates input to 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0.25) * (1.0) = 0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 supported by A1 and A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(0.25, 0.9) = 0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 to Rule A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(0.9, 0.25) = 0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 A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ranslates input to 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0.25) * (0.8) = (0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42960" y="465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Times New Roman"/>
              </a:rPr>
              <a:t>Non-naive 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obabilistic Infer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6280" y="1209600"/>
            <a:ext cx="8229600" cy="49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probability theory (especially Bayes’ theore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established discipline about uncertain outco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pirical science like physics/chemistry, can be verified by experi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0"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ability theory is too rigid to apply directly in many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assumptions have to be made to simplify the re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erent formalisms have been developed in which some aspects of the probability theory are changed/modifi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0"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will briefly review the basics of probability theory before discussing different approaches to uncertain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ty Axio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E) = Number of desired outc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number of outc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| event | / |sample space|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not E) = P(~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 – P(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057400" y="2590920"/>
            <a:ext cx="51814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7T05:47:13Z</dcterms:created>
  <dc:creator>Eric Spellman</dc:creator>
  <dc:description/>
  <dc:language>en-US</dc:language>
  <cp:lastModifiedBy>Tanel Tammet</cp:lastModifiedBy>
  <dcterms:modified xsi:type="dcterms:W3CDTF">2003-10-14T07:48:04Z</dcterms:modified>
  <cp:revision>91</cp:revision>
  <dc:subject/>
  <dc:title>PowerPoint Presentation</dc:title>
</cp:coreProperties>
</file>